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6EC-C146-4BFE-A695-80AAA36B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A09-33A2-4735-BABA-662AE74C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AEB4A-55B0-480F-8387-4D3211C8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09CFB-9307-4256-B060-68AD083F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39EF2-84B4-4D5B-BC52-A2A462D1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DCBDA-CF65-4324-8E3F-A1AAFE0E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33341-FF80-4F35-A7EE-EB6B7D39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77CEA-2A84-49C8-85D0-50A4161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49BE0-58B5-4AD9-A543-1BDCA4B5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F5CC8-8AEB-4CD6-BC05-F933F014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3065F-3F1C-487A-B899-96A63F56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14573-4ADA-4EFE-BE1E-BD5015CD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BA8-BB04-467B-8B34-30A62519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E8DD5-D5E5-419D-A4DD-FB9F09C2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B1280-BEC2-4ED1-AB5E-205853C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491EB-0503-4C0A-BBED-2F5E752A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4CA0C-B89E-4BDE-931A-48E33C46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4EB18-CC53-41E1-B8CE-25361DA0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E8C54-450E-4522-8B0B-CE83794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F3E05-0D55-4F1A-B8E6-96911DA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43C42-4174-49D2-9856-4C920FF4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1CA16-D055-4340-80B9-C03F3217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F47D9-44BF-4529-A735-11011113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503-7B63-41F8-B1B0-CB9CCD91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5DBBE-923C-4755-8DD8-88666C8B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05B60-1C8E-45B2-85DB-C492AE59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44A50-5F8C-4E26-BD54-56E43E6C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6C913-74F3-447B-B420-27C4497D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F4AFD-CAC8-404C-BC47-B866B055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E7BBA-8C35-4149-B666-70D7959C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54AAA-8931-4426-A181-A1C6E35B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93439-CE68-420E-B342-55C8CA27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6BDD7-8010-4057-85B6-F508EAD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AB7DB-E8B2-478F-AEA5-0274B77A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998F-7F3E-475E-B484-0B18B836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2EA30-DD44-4EC4-B33C-D877F695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F8948-9E4F-46FC-9E95-4E97EE2A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2E8F0-1A2B-4F5F-B617-1A57FD7D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94F29-E062-4465-B137-76EA9672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94A90-0D13-495E-848E-D1F0F720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D943F-A8C5-4B58-9D28-A9FAAB61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A9585-7D58-460A-A550-A989AD1F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44355-6DD0-4793-8611-BD083B4D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1D213-99D1-4AF1-851D-D755D018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E9771-2535-46C5-9175-0415C18D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B0E1-C762-4FE5-84E7-592B68AD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F1C8B-FB01-4B81-B6A9-DF77788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C9525-162A-4FDF-B823-B9BE5B7B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2D5D4-B1D4-409B-AC30-849DEF0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5435A-0FA4-4E2E-AEAA-B45B6D2C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87743-DFEE-448E-92A2-84052AB7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D5325-5B68-416F-BF20-F8BFF692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41E5B-431B-4811-83A4-A47637F8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6F39B-2EF3-4672-98F1-C40EC97F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F6094-2FF3-47F0-9B52-129C4FDF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93B4C-FA5E-4C3A-A642-D510081E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2C61-DD22-4071-AA8D-BD876596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5C62D-78DF-4AAC-8482-771DFAEC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AD063-3E0B-40B3-9DB5-288FF3E4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C914F-A453-4D48-A5FC-2C4602BA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90321-C1AD-4FBD-A7AE-6B828FB5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EA56F-D73C-410C-9421-C41E173B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1C4AC-5461-4292-A973-56C0C528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3C48C-0FF4-49D5-B41C-13016AB7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DD329D-DA67-40ED-8C09-F06393F9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7218E-B838-4933-B1B5-62A88E25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2DA60-56B4-4434-86DC-6865FAAA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4679-7E73-4544-8E7D-6B6682F8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231D0-6873-4019-B32B-E7FC0490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20C32-F17E-46D0-A6E9-0D65FCAF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37373-EA2B-4F9D-9464-455B19DF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EE484-93B3-4C5A-85F5-9EF1464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36979-2B22-41B4-8DF8-4BED1B3D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DEE9F-C753-44E5-B2CE-BD14EBB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2D6DA-C201-40DC-9F6A-DF37827C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84563-1DB2-4C8B-8BC0-E189F822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3AA69-5753-4641-8C49-7667728E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43E1A-756F-43A3-B64E-6315243C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4D83-0F4B-4FCB-AAF7-D3899B1A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62881-9CB0-4147-B75E-169F2924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EA822-02D3-4A00-9E4F-AC091EED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B0C3CB-5134-43BB-9990-38FF5A15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39F89-8698-4F91-B6FF-25E48748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85DA8-CCCE-4AB5-8FD4-338D15DE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B0EFC-3279-4DEB-8BFD-E7BFC54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2555F-3AE9-42AF-8F8D-F1771B23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63309-3E3D-4477-A76E-CEDAF19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47ED9-06CF-441A-A0F8-4B43151E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DDDE0-892B-48D2-AA79-BEF03BB7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2C10-730C-4A25-96F1-CFF0A75D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E95DB-0524-4D30-B91F-DDC9A2C5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875B2-E712-4217-AEE5-82AF1018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C3C98-5ACA-44F1-968E-FE3BDFD8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4635E-0C03-4E80-9D2D-36D85A1B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62817-1DE9-4FB4-AC72-E8B0620F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CD51B-0399-4AF9-8C5D-18CC8C6B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AC53A-DDB2-460D-985A-75CD55DC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832BE-8EDB-477C-AC5F-2CFA05E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01754-B8FB-474C-B842-DCA611D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21BE5-F90D-4512-9692-3944E6A6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B62D-010F-4279-9C0B-AB3D637E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F7816-BCE7-4575-80EB-7AD9C8C2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D8DCB-C801-41CB-82F4-12FEEBF5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8451A-8067-4829-BD3C-229A8E62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91EC0-CF9B-42B1-AA54-6AAFF5D1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CCC72-A13E-4687-BF94-2B273B8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05E63-8BE4-4594-BDBE-FD5FF09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C50D5-ED20-4128-9201-637F8D54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2F624-81A5-48AF-970E-0ADC19A7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34548-1C5C-44D5-A375-3195B93E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08ED96-13C2-4C7D-A2B1-46E17055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BBA-D0A7-4C42-99DC-C2408AFA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9A09-4924-48DB-BA09-6E46F61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6062F-3E93-429C-9479-CD4630E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EA9A7-B82E-4F90-BB55-2A771F5B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9048B-D634-4CFD-BAC7-7C863906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98247E-5C9A-4A9E-8D5A-6403740B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40705-664C-468D-BE41-9069F029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BB90A-ABDD-48EF-A99E-834C2C74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193E0-7CF3-4308-909B-A1D3934A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35CE9D-8AF3-4253-AAF7-04000FC8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A6E94-3C8D-4A7B-B543-4A86F664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2A23E-C56A-431A-8A0A-3146EF5A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B5F8-4BEF-41F5-B240-F7914894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8F84CA-D378-46BB-A777-5F3270B5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0775E-AB35-478C-82A3-A5EDB66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669D1-403E-4756-8AEA-B5631D1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00C5F1-3154-4502-A448-F425E26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C841C-C852-400A-88DA-99DDB219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F7720-0154-4518-9029-2AA6E6EB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27CCC-27B1-4979-8D38-9EEBEB3B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E822D0-B011-4223-8EF2-44653740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56732-9399-4DDE-A7FE-0B0918D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6EB92-C1A1-4CDC-87E3-0708ACF4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9E1E-D369-434B-8FDA-28F26890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69197-6D02-4AE2-986F-B71A73FB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18756D-F17B-46B2-968E-3EB28211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4F01A-52CA-4900-A005-984A6B3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52067-2BDB-461A-B49A-682EDD17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67C58B-8ADC-4F9C-9D05-73502E0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4A707-B424-47CB-AFCD-48306148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34A9A6-B68F-4CEC-BE58-E1F853B7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40265-9DEF-4E36-87D6-DE3D9FEA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3242E5-EB22-42D9-B874-67A3CDE9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58B92A-80D0-42DE-B65D-E7399E63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9BB9-78C9-4403-ADAD-13001A55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E6105-3C86-4422-8772-F4A73A6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36C87-BBBF-42CC-BC01-4418ECFA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C1338-14C1-4725-B653-C3D06AD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D48CD-2A87-402A-B95E-F5355F6B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B8A58-70C8-4B47-9F16-B147446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CAF751-087B-480B-9951-CC5DC69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7A4C3D-FF41-4FAB-A8FE-4C2AA218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24DA5-59DA-40E4-9237-8FD4F61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80D27-32BE-42F6-A2C7-75FB3A5A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3AFAF-E153-4277-A03B-2ADE9DE9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09B9-7438-4C72-BE8F-7DD47DD7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B66D12-7A1F-4546-B7CB-71AB3FBE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564898-0C01-4208-A239-A57699A3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DF4F6-26A4-453B-81F9-2C5F7A7F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3AD6E1-E773-4EA9-89DF-4985C976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247BF-257F-43E6-8945-1BE72BD8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463B8-7A68-44C3-85A0-C8E49DEF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211A7A-07E3-45DE-8ED6-F148FDDF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92B7C-2C1B-4624-9D65-6F66ABC6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45BCCC-ADE1-47CC-AD25-C79FD0EC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59FB8-3107-42A5-B461-00E676D2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7025-4043-4065-9D4E-6581B8C6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7B6AA7-66B3-43A0-BEBB-C84BC6B9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AE8688-D2A3-4F4D-BF1E-01B086D6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DCE9B1-3B84-4F46-B8EB-79458502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9E94-F2AD-4A83-82D1-1787BC7E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283B-6A57-4118-AA03-DB797D69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6FF5-D9E2-4707-8EDC-6D1D49D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DA7A-33CF-4B33-B34D-8D17D85B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F63-C01F-4BEC-B444-CC726627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5EB3-269A-4FB3-8010-9DEA4964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79C8-0AA0-4B30-954B-0EFD444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E88B-CA26-4A1F-994B-F68D12B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AB3E-7443-4BB6-AE4A-CE64D1FB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9A01-D7B2-4DD1-93D4-12F6D378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5EE60-1540-40E1-81DF-7E0A4189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EC10-E963-4B02-AF77-737B0936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E7A7-8F46-43AF-9B08-CD28EE48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3E11-FC53-4ECD-B2BF-02EE6DF6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E6B94-AF8F-4F87-A518-3A2C3658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D38-F5CA-4155-ACE2-8E402F0F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C891-6CCE-42A8-BC88-513F92D5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F9FF-3639-4611-AD9D-54692B1A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C5A2-7AA7-4215-8CE1-8F5EEEA9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8BDE-2968-4A38-B7DC-66AD5F80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E385-7273-45D0-BD9F-0B325652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0B63-A440-403D-85A2-855C31CA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CFF9-DB24-4CAF-8464-74D1ED45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7348-A2FE-4E43-9A27-518744E5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FEC3-AC01-4364-9A09-1947E073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560C3-C941-4A11-82B3-F3C18BC5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4D5-350F-49A4-8E44-04E75C4B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111CF-E0D9-4AFE-B403-2591A79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9B15B-A375-42E6-A714-886BBC30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EE11-62F1-43B4-838A-12D8ECD4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D104-9655-4A51-A057-950DFA0D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5437B-26D4-40F3-8A80-216BAFF6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AEEC-565E-4830-A181-361E3E5F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23373-EEA1-458D-A040-CADABEA7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4073-1136-4FEF-A751-79B26E9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DCBC-F5B8-4287-9861-CC086656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EA98E-A2AF-49B1-ADA0-6A139147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947-85CF-4B59-B99E-8E9C185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2340-FDE1-4EDD-BB3D-1D8FF7BB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CCC8-7979-45A8-9933-52644A2B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A6D52-A1FE-4FCC-8096-F5EBAFE1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7C671-3030-4723-8A0D-1161FD37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F7499-374F-4EC6-837B-038047A7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A8C3-2AF4-4890-877F-4737B8E7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7944B-E138-4E28-A702-5CB9D94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91069-B3D0-4FE7-8917-5BA189CA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21A7-9094-4806-B35A-E2E4FAE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29374-0413-48C9-9C06-85D18908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00B-445A-43B9-91DB-3584BF6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7757B-4F50-4560-BA67-64373B74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5AD12-073F-4F6F-8A32-C15F0513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1B2F4-6681-4B10-859E-A2E1AFD7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EC50B-5857-420F-B09D-2B08D9B0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EEC91-BA9C-494B-9F24-C697C801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06823-8974-44B7-A3F9-58B67FB3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DED06-7A36-4F76-8BE5-F4B18542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1342F-26C6-44FF-A972-6E452DFA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83B49-4A7D-4449-9FA4-6C821456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98CF-F4A5-4394-8BA3-E5D688A2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9A2-B31A-4242-BE9C-44057877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C68DC-80CA-4820-8C3F-7B110D8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E9380-F7DA-4C61-BE6B-569C461D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59490-959E-4BA2-B669-D3F7B4A4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C18FD-7913-4D23-916E-830C2AB6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0FAAD-A618-4A77-A056-C131424E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0622-89BE-4621-B55A-6C16FB6D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02066-72DD-4F94-B32E-EDC2C91C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3B2A1-D98D-4792-9DC4-0847780B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3FC34-E593-4005-BC22-5C66762B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B7A22-0552-4962-9966-4713CCDE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9C7-4634-42D2-9AAA-B126BC0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1BEE3-681E-46D1-85D3-BBF17FBF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8F5B3-AF42-4ABD-8159-073995E9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27D67-31AB-43EC-920C-A3B1340F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40D6-EC39-4E93-9B28-B45B44A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716F4-2EF6-4A71-B779-E26BAB29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AF253-9F6E-4AB0-9470-DDFD4298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AB7F9-947C-46BF-A8A2-F3330465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C5F06-220A-4355-947D-D5619ABB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13B5D-C173-41EE-925B-DE3E2200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07306-3D7F-4EDB-955C-4D1D42C0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E568-3CC7-4A76-9B01-DD2E3CB0B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43D6-719A-4565-B941-927B2B5C46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580C-952D-4852-BC40-6CD81A18F8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AB75-1A49-4ADA-89BE-8D4622BA1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0B39-F8B1-4BA2-8032-F9A0EC82EE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B3AA-CF24-48E7-BE4B-968D33E069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786D-2956-41C3-830A-DA73F998BA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72D5-FE4A-4387-9A94-8CD2AB6CE4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13C-D9D5-417F-9CA6-00C39E66A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5A78-E2B5-4349-9979-AA6484F5C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435-9756-41BB-B062-A7C3BBA43C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86CD-1ACF-498B-8D34-BC8ED82472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9322-743C-46A4-9627-F32326A68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A23A-7990-4931-BB71-916163208E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60EC-2E9D-4757-AB03-4DC8194BB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FFC1-9FC4-4920-962E-51DFA73F73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0C01-4639-4E57-A66F-179372306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0789-9E76-4621-B6B3-3C0D4801E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FF6E-866F-4BE6-B36F-42445CDB6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3C1A-2B67-422D-962A-B7350D4596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4BB5-4C2C-417A-89C8-9D7C25BDF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9F28-9C32-4B70-AF77-90F0B49B93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CB93-C165-439E-8CD4-A6F2864104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3B5A-B20F-4105-9E66-4213E507FE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0C70-6210-4CD2-BCDF-942DD88EE8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FE29-4E41-4CFA-9188-2E1E8E98A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9E09-5D11-40BE-9840-1A7D4ADCC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FC40-4AB0-44B3-8306-46EE01578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690-FE62-4306-8678-7CA840827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3D15-19DA-4401-A8F8-487D51E3DC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8CB8-BA90-4140-931D-7DDE90898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7902-4E12-42EF-B747-96E8EAAE8B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77F9-ACC4-4945-80D3-95FAEFF331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04C-23F8-4D8F-82D8-60E9DDC53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1848-254D-4AB1-B187-72772F526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9A2-3C3C-4E80-A690-06C6A9A362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AFD3-FA0C-47C4-8181-5CDF7B17F3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7983-8C55-4D9A-9FF9-8CD85B3C86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9F05-CC59-4E79-AAB2-0E9C29EEA3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348D-9EDB-4351-BBCE-7D3665264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43000" y="2611440"/>
            <a:ext cx="7020000" cy="6094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130560" y="3733920"/>
            <a:ext cx="30463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271440" y="1271520"/>
            <a:ext cx="8599680" cy="431496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6148" descr=""/>
          <p:cNvPicPr/>
          <p:nvPr/>
        </p:nvPicPr>
        <p:blipFill>
          <a:blip r:embed="rId3"/>
          <a:stretch/>
        </p:blipFill>
        <p:spPr>
          <a:xfrm>
            <a:off x="2843280" y="3213000"/>
            <a:ext cx="1584360" cy="5590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6149" descr=""/>
          <p:cNvPicPr/>
          <p:nvPr/>
        </p:nvPicPr>
        <p:blipFill>
          <a:blip r:embed="rId4"/>
          <a:stretch/>
        </p:blipFill>
        <p:spPr>
          <a:xfrm>
            <a:off x="6877080" y="3213000"/>
            <a:ext cx="1584360" cy="5590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6150" descr=""/>
          <p:cNvPicPr/>
          <p:nvPr/>
        </p:nvPicPr>
        <p:blipFill>
          <a:blip r:embed="rId5"/>
          <a:stretch/>
        </p:blipFill>
        <p:spPr>
          <a:xfrm>
            <a:off x="2800440" y="4579920"/>
            <a:ext cx="1584360" cy="55872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6151" descr=""/>
          <p:cNvPicPr/>
          <p:nvPr/>
        </p:nvPicPr>
        <p:blipFill>
          <a:blip r:embed="rId6"/>
          <a:stretch/>
        </p:blipFill>
        <p:spPr>
          <a:xfrm>
            <a:off x="6934320" y="4581360"/>
            <a:ext cx="18716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04760" y="828720"/>
            <a:ext cx="8934480" cy="52005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116000" y="5084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528480" y="2662200"/>
            <a:ext cx="8085240" cy="15336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957240" y="880920"/>
            <a:ext cx="7229520" cy="5886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3564000" y="4221000"/>
            <a:ext cx="4392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6:07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